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D20-FB03-46BD-8FC1-EB1CE8EE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D32-B5B6-4A60-A163-B260E960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C8B-8F65-4670-9BA9-2406BC01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57C-6A0A-4BB2-8BFC-95F030FD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9F4-D771-426A-8F46-ACC06B32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DD2-8984-4806-8339-0CF73A3E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082-652B-4700-BF16-88E1377C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CE0-5D25-446B-B726-D47A6853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F9A-8840-4F74-BF54-AC147EE6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8D4-3619-4BF1-93AA-7E58775B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878-75DB-480F-B10E-8567D27B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20D3-02EF-47C9-B3DE-F3CA4AC2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D02E-2343-4826-9BBD-4CC8E61D4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62520" y="1143000"/>
            <a:ext cx="177840" cy="6343560"/>
          </a:xfrm>
          <a:custGeom>
            <a:avLst/>
            <a:gdLst/>
            <a:ahLst/>
            <a:rect l="l" t="t" r="r" b="b"/>
            <a:pathLst>
              <a:path w="128" h="3904">
                <a:moveTo>
                  <a:pt x="0" y="0"/>
                </a:moveTo>
                <a:lnTo>
                  <a:pt x="128" y="3904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96400" y="7162920"/>
            <a:ext cx="157356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7 53’ 00”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7 00’ 00”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67800" y="990720"/>
            <a:ext cx="157356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9 06’ 00”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7 00’ 00”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4267080"/>
            <a:ext cx="609480" cy="1526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5000" y="4038480"/>
            <a:ext cx="1573560" cy="64260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8 30’ 00”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7 00’ 00”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4120" y="1066680"/>
            <a:ext cx="1412280" cy="36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VA0420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6920" y="4191120"/>
            <a:ext cx="141228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VA0800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080" y="7315200"/>
            <a:ext cx="1412280" cy="36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VA1150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920" y="3505320"/>
            <a:ext cx="2265480" cy="45972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t Link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8862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7543800"/>
            <a:ext cx="609480" cy="1522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1066680"/>
            <a:ext cx="609480" cy="1526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7600" y="5257800"/>
            <a:ext cx="3692160" cy="825480"/>
          </a:xfrm>
          <a:prstGeom prst="rect">
            <a:avLst/>
          </a:prstGeom>
          <a:solidFill>
            <a:srgbClr val="ffffff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d Enroute 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ween FL190 and FL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29080" y="8777160"/>
            <a:ext cx="1508040" cy="3682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achmen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1:19:41Z</dcterms:created>
  <dc:creator>Valued Gateway Client</dc:creator>
  <dc:description/>
  <dc:language>en-US</dc:language>
  <cp:lastModifiedBy>Beed</cp:lastModifiedBy>
  <dcterms:modified xsi:type="dcterms:W3CDTF">2006-01-23T17:45:49Z</dcterms:modified>
  <cp:revision>9</cp:revision>
  <dc:subject/>
  <dc:title>PowerPoint Presentation</dc:title>
</cp:coreProperties>
</file>